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21C4-811D-4330-BB00-5C0C60F15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0648-0029-467D-9A23-EDAEF39B7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F681-A119-4C88-9AF0-FB62C251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B3E5-E695-40A6-8C03-1C015ED65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26C7-92ED-45D7-9448-E3C377141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9F9B-87AD-4613-A645-D0D44FEC0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5F27-BC7B-4BC5-A984-EC3E788E6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8848-4A6F-4CE6-B96C-C794CAD6A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0515-5DFE-4C23-8638-8F1EBE1D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2266-394C-4211-B63C-1591A966F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CE1F-BC4F-49EA-8099-51DF369ED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D06C-A969-4CB6-850E-0EEF6FCCE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72A2-6A29-4956-9D87-7445AF102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0265-B343-48D4-A0A0-3B11899DE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50D8-8C80-4E9F-9875-E59798F2E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81A8-1344-4E38-9512-D8586BFE3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6E05-4EBC-4CBF-AABD-EE3B261A5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F37C-6050-41FC-B76D-A48144BC4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29AC-6199-40CC-ABD7-21A78BF74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F950-2BA9-4A4A-9D58-B6B930233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764B4-13C6-4FC2-BC7B-24E28A59A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A799-3888-4195-B841-A555A8850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541DD-8D10-4619-8829-F0CCDA5C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D829-7021-41C4-8F35-6C54E673A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9F19-3077-4095-A5F2-68EB7BFB0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3117-9EDE-4775-95E1-1EE014EC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7F350-5E14-45F2-A74C-E30DC4EC5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A6110-4247-4BA5-B4B7-F787C2733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ACE63-5E7A-47F3-BB5F-F574F752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0907A-0E7C-4FCE-8E0B-F9F93CA81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F9CA-CE8B-44F2-8C11-8C4F3D693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4E74F-C655-4456-BB38-CC8A45A64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8410-815C-41EA-8403-DAE6B5F8C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elaine barron (ebarron@avonworth.k12.pa.us)</cp:lastModifiedBy>
  <dcterms:modified xsi:type="dcterms:W3CDTF">2010-03-22T17:01:58Z</dcterms:modified>
  <cp:revision>119</cp:revision>
  <dc:subject/>
  <dc:title>Wikispaces for Teachers A guide to using them in your classroom</dc:title>
</cp:coreProperties>
</file>